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302-696D-40A5-A3E9-CDC722F6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B50-8375-4312-AEE7-3A6986AC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8A9-EF58-48B6-8366-770CD8C7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083-B184-4FC7-9E9B-759F9371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0E2-D168-4E5C-922B-1671BEA2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5E2-CE58-430C-A8FF-B4FC65A6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4905-2729-46BC-A54D-093EBEB1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9612-BE83-4C13-BDDB-F4051758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E07A-A7AC-4C14-B1CB-DA0F4220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529-B88C-494B-85DD-826242EB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890D-D4C8-448E-A92B-E44A019F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092-B714-4DF1-B58D-F6086760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8955-1466-40B5-BFED-9BA5837CA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 is in short supply and nuclear energy is both expensive and potentially harmful to the environment. The solution could be in the use of renewable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62120" y="1295280"/>
            <a:ext cx="7772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costs are 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arbon dioxide emissions to add to the Greenhouse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lphur dioxide emissions to cause acid 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762120" y="457200"/>
            <a:ext cx="77724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dvantag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icture 8" descr="E:\0011energysol.jpg"/>
          <p:cNvPicPr/>
          <p:nvPr/>
        </p:nvPicPr>
        <p:blipFill>
          <a:blip r:embed="rId1"/>
          <a:stretch/>
        </p:blipFill>
        <p:spPr>
          <a:xfrm>
            <a:off x="4724280" y="2133720"/>
            <a:ext cx="3970440" cy="3063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4491360" y="5486400"/>
            <a:ext cx="42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ar powered station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47960" y="213372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panels can be quickly set up in remote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communities can benefit from small scale use of  solar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 to charge batteries to provide electricity when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685800" y="304920"/>
            <a:ext cx="7848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ore Advantag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9" descr="E:\0003energysol.jpg"/>
          <p:cNvPicPr/>
          <p:nvPr/>
        </p:nvPicPr>
        <p:blipFill>
          <a:blip r:embed="rId2"/>
          <a:stretch/>
        </p:blipFill>
        <p:spPr>
          <a:xfrm>
            <a:off x="304920" y="2666880"/>
            <a:ext cx="4186080" cy="2895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02280" y="579132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cells used to charge batt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itial cost of solar cells can be  very hi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utput is dependent on weather conditions and the time of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solar panels are needed to produce that of a power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685800" y="380880"/>
            <a:ext cx="78487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isadvantage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Picture 11" descr="E:\0007energysol.jpg"/>
          <p:cNvPicPr/>
          <p:nvPr/>
        </p:nvPicPr>
        <p:blipFill>
          <a:blip r:embed="rId1"/>
          <a:stretch/>
        </p:blipFill>
        <p:spPr>
          <a:xfrm>
            <a:off x="5257800" y="2133720"/>
            <a:ext cx="2895480" cy="3276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943880" y="5562720"/>
            <a:ext cx="34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reflector used for co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areas of land are required for large scale generation of electr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rm reliable biome would be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cells have relatively low effici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533520" y="304920"/>
            <a:ext cx="81532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re disadvantag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Picture 7" descr="A:\0008energysol.jpg"/>
          <p:cNvPicPr/>
          <p:nvPr/>
        </p:nvPicPr>
        <p:blipFill>
          <a:blip r:embed="rId2"/>
          <a:stretch/>
        </p:blipFill>
        <p:spPr>
          <a:xfrm>
            <a:off x="4114800" y="1981080"/>
            <a:ext cx="4800600" cy="426744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457200" y="228600"/>
            <a:ext cx="8229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6" descr="E:\0005energysol.jpg"/>
          <p:cNvPicPr/>
          <p:nvPr/>
        </p:nvPicPr>
        <p:blipFill>
          <a:blip r:embed="rId4"/>
          <a:stretch/>
        </p:blipFill>
        <p:spPr>
          <a:xfrm>
            <a:off x="380880" y="3048120"/>
            <a:ext cx="4419720" cy="2514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5181480" y="259092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lar energy in use in a mobile home in Arizo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olar panels convert the solar energy into electrical energ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use of solar cells are also supplemented by the use of wind turb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3809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lideshow was produced and compiled by John Hendstock, North Chadderton School.  Images provided by Dr. Overy, and are available on the ASE Image Gallery   at  www.ase.org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457200" y="380880"/>
            <a:ext cx="8229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Asus</dc:creator>
  <dc:description/>
  <dc:language>en-US</dc:language>
  <cp:lastModifiedBy>Asus</cp:lastModifiedBy>
  <cp:lastPrinted>2000-07-18T00:40:34Z</cp:lastPrinted>
  <dcterms:modified xsi:type="dcterms:W3CDTF">2018-03-09T16:36:08Z</dcterms:modified>
  <cp:revision>21</cp:revision>
  <dc:subject/>
  <dc:title>No Slide Title</dc:title>
</cp:coreProperties>
</file>